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604-3E33-46B3-8E04-4F06B533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0AB-683F-44F9-ACD4-D5E1C32D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E97-3377-47B2-BEC5-C591249C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A35-3E8E-4F64-A390-C651A259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20EC-DCF2-49BE-88E4-8749CAC7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C14B-6C11-4047-9FA1-9D08B560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51F1-D0E5-45FE-A2D1-BC8942D3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5FD9-4A57-4E49-A865-DFAA10E7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08BE-79B1-4E52-8FF6-F50CC99B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8F9D-75D4-453D-AAEC-46140575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342B-9023-4FDC-B8C3-C172B9D4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80C-9245-40A0-914D-44409C93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EE44-F75D-4498-9695-FF383229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E0F1-DF00-4F5F-A589-E7789943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B8AD-9FF3-4872-B21A-2B392A0F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ACB3-1EB8-47CC-9AAB-69651ACA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63AF-2AA9-45BE-8C24-FF48A3E0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59D-3D80-474E-ADCC-4B79CFBE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4D1-6EF7-4B63-98B8-482C4160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895-6C6E-4519-9707-ECC6A31B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D89-127F-4CAE-A873-7C797287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83C-378D-4306-BE88-0425BC90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AC3-7A01-4D41-B32D-12FE56CD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2EA-FB38-451C-9AA5-FCB8325B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B1C8-2C93-4866-BB31-283E6ABA7D92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3286-481F-499A-94F6-C33EC9928160}" type="slidenum">
              <a:rPr b="0" lang="en-A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1japIhKU9I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roadway"/>
              </a:rPr>
              <a:t>Gatta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lm technique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Sound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Two main kinds of sound heard in film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eaeaea"/>
                </a:solidFill>
                <a:latin typeface="Arial"/>
              </a:rPr>
              <a:t>Sound effects: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all the sounds made in the “world” of the film that help create realis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eaeaea"/>
                </a:solidFill>
                <a:latin typeface="Arial"/>
              </a:rPr>
              <a:t>Music soundtrack: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contributes significantly to the mood of a film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tle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Sound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Content Placeholder 2"/>
          <p:cNvSpPr/>
          <p:nvPr/>
        </p:nvSpPr>
        <p:spPr>
          <a:xfrm>
            <a:off x="4557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642960" y="1428840"/>
            <a:ext cx="79297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The close up opening scene of falling hairs and skin arouse curiosity (what is happening?) and the soundtrack matches the falling objects with booming sounds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Key theme – the importance of body parts in a world dedicated to genetic perfection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Dialogue is extremely important in this film and key themes are found in speeches.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571680" y="1357200"/>
            <a:ext cx="785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The film uses ‘voice over’ narration – it  clarifies and co-ordinates the narratives as huge time jumps are involved, linked only by the voice ov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The confessional voice tells all about Jerome Morrow and then drops the bombshell: “I am </a:t>
            </a:r>
            <a:r>
              <a:rPr b="0" i="1" lang="en-AU" sz="2400" spc="-1" strike="noStrike">
                <a:solidFill>
                  <a:srgbClr val="eaeaea"/>
                </a:solidFill>
                <a:latin typeface="Arial"/>
              </a:rPr>
              <a:t>not</a:t>
            </a: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 Jerome Morrow”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Music – the orchestral music sets a sombre and reflective ton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Sounds effects – e.g. Vincent crossing the road and the sound of the car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Why would the director emphasise these sounds?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Title 1"/>
          <p:cNvSpPr/>
          <p:nvPr/>
        </p:nvSpPr>
        <p:spPr>
          <a:xfrm>
            <a:off x="285840" y="28584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Sound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Cinemat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71320" y="1213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Involves all aspects of the use of the camera to film the actio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Camera focus, distance, angle, movement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* </a:t>
            </a:r>
            <a:r>
              <a:rPr b="1" lang="en-AU" sz="3200" spc="-1" strike="noStrike">
                <a:solidFill>
                  <a:srgbClr val="eaeaea"/>
                </a:solidFill>
                <a:latin typeface="Arial"/>
              </a:rPr>
              <a:t>Camera Focus: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draws the audiences attention to particular characters, or can place equal attention on characters and their setting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rcRect l="2196" t="14651" r="39944" b="33597"/>
          <a:stretch/>
        </p:blipFill>
        <p:spPr>
          <a:xfrm>
            <a:off x="285840" y="500040"/>
            <a:ext cx="3833640" cy="25718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4857840" y="1000080"/>
            <a:ext cx="357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Calibri"/>
              </a:rPr>
              <a:t>Only a particular “zone” of focu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Calibri"/>
              </a:rPr>
              <a:t>(depth of fiel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2"/>
          <a:srcRect l="2196" t="15625" r="49463" b="38479"/>
          <a:stretch/>
        </p:blipFill>
        <p:spPr>
          <a:xfrm>
            <a:off x="4429080" y="3429000"/>
            <a:ext cx="3822840" cy="29019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"/>
          <p:cNvSpPr/>
          <p:nvPr/>
        </p:nvSpPr>
        <p:spPr>
          <a:xfrm>
            <a:off x="642960" y="4286160"/>
            <a:ext cx="335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Calibri"/>
              </a:rPr>
              <a:t>Everything in the frame is in equal foc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itle 1"/>
          <p:cNvSpPr/>
          <p:nvPr/>
        </p:nvSpPr>
        <p:spPr>
          <a:xfrm>
            <a:off x="642960" y="14292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Cinematograph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357120" y="1143000"/>
            <a:ext cx="85726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What do the extreme close ups focus on in the opening sequenc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Finger nail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Ur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Vacuuming the keyboard for skin partic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Fingerprint ID entering Gattaca Corp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Eye lash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Ha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Finger tip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The only people who are focused on in close ups are Jerome, Doctor Lamar and Irene. Within the corporation there are few people who are shown to be individual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Cinemat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58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* </a:t>
            </a:r>
            <a:r>
              <a:rPr b="1" lang="en-AU" sz="3200" spc="-1" strike="noStrike">
                <a:solidFill>
                  <a:srgbClr val="eaeaea"/>
                </a:solidFill>
                <a:latin typeface="Arial"/>
              </a:rPr>
              <a:t>Camera distance: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close up, medium shot, long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shot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eaeaea"/>
                </a:solidFill>
                <a:latin typeface="Arial"/>
              </a:rPr>
              <a:t>* Camera angle: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high or low. Audience looks up at – or down on – the a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eaeaea"/>
                </a:solidFill>
                <a:latin typeface="Arial"/>
              </a:rPr>
              <a:t>* Camera movement: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panning, tilting, tracking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www.youtube.com/watch?v=d1japIhKU9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46" name="Straight Arrow Connector 4"/>
          <p:cNvCxnSpPr/>
          <p:nvPr/>
        </p:nvCxnSpPr>
        <p:spPr>
          <a:xfrm>
            <a:off x="2499840" y="5143680"/>
            <a:ext cx="1429560" cy="786240"/>
          </a:xfrm>
          <a:prstGeom prst="straightConnector1">
            <a:avLst/>
          </a:prstGeom>
          <a:ln cap="rnd" w="34920">
            <a:solidFill>
              <a:srgbClr val="eaeaea"/>
            </a:solidFill>
            <a:custDash>
              <a:ds d="899000" sp="201000"/>
            </a:custDash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5400" y="1598760"/>
            <a:ext cx="8474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Much of Gattaca is filmed using the </a:t>
            </a:r>
            <a:r>
              <a:rPr b="1" lang="en-AU" sz="2600" spc="-1" strike="noStrike">
                <a:solidFill>
                  <a:srgbClr val="eaeaea"/>
                </a:solidFill>
                <a:latin typeface="Arial"/>
              </a:rPr>
              <a:t>horizontal angl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(at eye-level) to create empathy with the characters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eaeaea"/>
                </a:solidFill>
                <a:latin typeface="Arial"/>
              </a:rPr>
              <a:t>Vertical angle </a:t>
            </a: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– There is a shot of Vincent look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Down on Jerome from the top of the stairs. Jerom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appears small and lonely.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Cinemat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Edi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eaeaea"/>
                </a:solidFill>
                <a:latin typeface="Arial"/>
              </a:rPr>
              <a:t>Is the process of determining the length and sequence of shots in a film.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eaeaea"/>
                </a:solidFill>
                <a:latin typeface="Arial"/>
              </a:rPr>
              <a:t>Tension and excitement can be generated by brief shots and frequent cuts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eaeaea"/>
                </a:solidFill>
                <a:latin typeface="Arial"/>
              </a:rPr>
              <a:t>A more reflective scene would use longer shot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000" spc="-1" strike="noStrike">
                <a:solidFill>
                  <a:srgbClr val="eaeaea"/>
                </a:solidFill>
                <a:latin typeface="Arial"/>
              </a:rPr>
              <a:t>Editing also involves deciding which shots will be included in the film and which shots will end up on the “cutting room floor.”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Motif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Motifs are recurrent visual or audio aspects of a film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which have thematic meaning.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Vincent cleaning himself (of skin and hair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Urine and blood sample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Hair, Skin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Stair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Water and swimming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eaeaea"/>
                </a:solidFill>
                <a:latin typeface="Arial"/>
              </a:rPr>
              <a:t>Why do you think each of these things are used?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Mise en Sce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eaeaea"/>
                </a:solidFill>
                <a:latin typeface="Arial"/>
              </a:rPr>
              <a:t>pronounced “meez aun sen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French term meaning ‘</a:t>
            </a:r>
            <a:r>
              <a:rPr b="0" i="1" lang="en-AU" sz="3200" spc="-1" strike="noStrike">
                <a:solidFill>
                  <a:srgbClr val="eaeaea"/>
                </a:solidFill>
                <a:latin typeface="Arial"/>
              </a:rPr>
              <a:t>staging the action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’. Refers to all the visual elements within the fra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* setting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* lighting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* costumes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* acting sty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Swimm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Why is this swimming an important motif in the film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rcRect l="2196" t="14651" r="64113" b="53130"/>
          <a:stretch/>
        </p:blipFill>
        <p:spPr>
          <a:xfrm>
            <a:off x="2286000" y="714240"/>
            <a:ext cx="5000760" cy="41436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428760" y="521496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Broadway"/>
              </a:rPr>
              <a:t>Setting, lighting, costu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rcRect l="2196" t="15625" r="49463" b="38479"/>
          <a:stretch/>
        </p:blipFill>
        <p:spPr>
          <a:xfrm>
            <a:off x="2233440" y="843120"/>
            <a:ext cx="5196240" cy="394308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428760" y="550080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Broadway"/>
              </a:rPr>
              <a:t>Setting, lighting, costume, acting style</a:t>
            </a:r>
            <a:r>
              <a:rPr b="0" lang="en-AU" sz="4000" spc="-1" strike="noStrike">
                <a:solidFill>
                  <a:srgbClr val="eaeaea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28400" y="13568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It uses only 10 sets/locations and the main ones are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Arial"/>
              </a:rPr>
              <a:t>The Gattaca complex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Arial"/>
              </a:rPr>
              <a:t>The navigation lab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Arial"/>
              </a:rPr>
              <a:t>The space centre,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Arial"/>
              </a:rPr>
              <a:t>Jerome’s apartment,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Arial"/>
              </a:rPr>
              <a:t>Irene’s house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Arial"/>
              </a:rPr>
              <a:t>the police centr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284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Mise en Sce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28400" y="92880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*  Overall the setting of the film is quite severe and uncluttered and is dominated by people and symbolic locations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They are all bare, functional spaces with smooth polished floors, bare walls, glass, vast airy interiors which provide an overall atmosphere of modernism and minimalism.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This all adds to the premise of the film – that of a society based on the principles of ‘perfection’ and this type of society takes away individuality – everything looks the same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Eugene’s apart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This is a good example of the ‘modernist’ style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The staircase is a grand architectural feature and suggests wealth and taste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The circular staircase is an important symbol and evokes a number of connotations – most significantly, it has the shape of a double helix (the DNA pattern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This continually links to the theme of genetic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Ligh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e ‘palette’ of the film is primarily green and blue/grey.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It is visually cold and this is deliberate and reflects the sterile environmen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Niccol and his cinematographer wanted to show the idea that, in its desire to be ‘perfect’ society has squeezed all humanity out. 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455760" y="1598760"/>
            <a:ext cx="822636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loods of green in the film show threat or ten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rky colours of brown contribute to the ‘noir’ sequences – the alleyway, the sequence when Vincent punches the gua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 contrast there are scenes which are bathed in golden light – e.g. when Vincent’s ambition of going to space is revealed, Vincent and Irene’s intimac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Why might gold be used for these scenes?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Lighting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6:45:49Z</dcterms:created>
  <dc:creator>Sadikay</dc:creator>
  <dc:description/>
  <dc:language>en-US</dc:language>
  <cp:lastModifiedBy>LaToya</cp:lastModifiedBy>
  <dcterms:modified xsi:type="dcterms:W3CDTF">2012-02-12T03:58:33Z</dcterms:modified>
  <cp:revision>58</cp:revision>
  <dc:subject/>
  <dc:title>Gattaca</dc:title>
</cp:coreProperties>
</file>